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176A-4CB9-4785-BFEB-85D817F9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36B6-9AE7-451D-9B00-622A1456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ECC1-7AD6-4AEA-A664-206CF43E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EB5E-6743-4BE7-A7FC-CD276C71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63C0-77C7-4FBA-84E0-2695AEC4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A2BC-FBD7-4EF8-9A42-DE08D3A9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3FB3-1D62-4252-85A9-78422F40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4159-3D12-4CD4-87DA-2A5A9C62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5EA4-CFCA-4686-8821-9CCB392A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40B6-3C87-4704-A899-C48C0FCC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2D87-ED5E-4937-9252-6F741FBC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66B-64AF-4567-A5C0-7A256929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907B-6E5B-4EDA-AEFE-0C3389BB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9494-62C5-412B-B4DE-259241B5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5295-E19F-4E4C-9B01-E8587DAA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CDCA-0029-442E-8481-0F3FFD32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0B84-F98B-46C0-B569-3436E2A3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14B6-F4EE-4614-ABE3-0CEF9509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DC9A-C226-49B9-AE7A-D2E53F27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6597-55FE-4471-AC5E-3866355A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F46F-AF9D-4A13-A680-AE0E134E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4E04-ED51-4FEB-A8B1-4633D34D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D249-EF40-47C1-878E-F1F37208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88E4-CD0E-4A53-8226-394E6D76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BA53-ADF2-40B2-B422-CAC0421A74C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E1E2-9697-410B-9FA0-6915E8F0CC2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2287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tomic Structu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om Indivisible to Quantum Mechanical Model of the Ato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1224000" cy="110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9203-5884-4C1B-8DFD-D0C175F3447F}" type="slidenum">
              <a:t>1</a:t>
            </a:fld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hortfalls of Rutherford’s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d not explain where the atom’s negatively charged electrons are located in the space surrounding its positively charged nucleu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e know oppositely charged particles attract each oth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prevents the negative electrons from being drawn into the positive nucleu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9DC9-53F6-4AC2-ADF0-229879F65853}" type="slidenum">
              <a:t>10</a:t>
            </a:fld>
          </a:p>
        </p:txBody>
      </p:sp>
    </p:spTree>
  </p:cSld>
  <p:transition spd="med">
    <p:dissolve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oth dot diagrams and orbital diagrams will be use full to use when we begin our study of atomic bonding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e have been dealing with valence electrons since our initial studies of the 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number of valence electrons can be determined by reading the column numbe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 = 3 valence electr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r = 7 valence electr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l transitions metals have 2 valence electron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C1E5-90C2-44E0-B82A-A87456DC89E9}" type="slidenum">
              <a:t>100</a:t>
            </a:fld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hr Model (191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els Bohr (1885-1962), Danish scientist working with Rutherfor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posed that electrons must have enough energy to keep them in constant motion around the nucle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alogous to the motion of the planets orbiting the su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6E5-93E7-4561-BC23-77869956BA14}" type="slidenum">
              <a:t>11</a:t>
            </a:fld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lanetary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planets are attracted to the sun by gravitational force, they move with enough energy to remain in stable orbits around the sun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ectrons have energy of motion that enables them to overcome the attraction for the positive nucle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E4E7-C95F-46BD-BB68-8DDB1ADF7547}" type="slidenum">
              <a:t>12</a:t>
            </a:fld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ink about satellites…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 launch a satellite into space with enough energy to orbit the eart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amount of energy it is given, determines how high it will orbi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 use energy from a rocket to boost our satellite, what energy do we give electrons to boost them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AB40-0E1B-45BC-9538-076E2888851D}" type="slidenum">
              <a:t>13</a:t>
            </a:fld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ectronic Structure of Ato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aves-particle dua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hotoelectric effec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lanck’s consta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ohr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 Broglie equ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F57B-112D-45D0-967D-E03739C916B6}" type="slidenum">
              <a:t>14</a:t>
            </a:fld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adiant Ener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  <a:ea typeface="Times New Roman"/>
              </a:rPr>
              <a:t>Radiation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the emission of energy in various for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A.K.A. Electromagnetic Radi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Radiant Energy travels in the form of waves that have both electrical and magnetic impuls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84CC-65F2-40AB-B58B-FECBB714E0C1}" type="slidenum">
              <a:t>15</a:t>
            </a:fld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  <a:ea typeface="Times New Roman"/>
              </a:rPr>
              <a:t>Electromagnetic Radiation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radiation that consists of wave-like electric and magnetic fields in space, including light, microwaves, radio signals, and x-ray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Electromagnetic waves can travel through empty space, at the speed of light (c=3.00x10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8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m/s) or about 300million m/s!!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B12C-D949-4FF3-8792-1E5E6632A6D6}" type="slidenum">
              <a:t>16</a:t>
            </a:fld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v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Waves transfer energy from one place to anoth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Think about the damage done by waves during strong hurricanes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Think about placing a tennis ball in your bath tub, if you create waves at one it, that energy is transferred to the ball at the other = bobbin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Electromagnetic waves have the same characteristics as other wav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 flipH="1" rot="10800000">
            <a:off x="7010280" y="380880"/>
            <a:ext cx="122724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84C4-F933-4304-896C-839B804B1FAD}" type="slidenum">
              <a:t>17</a:t>
            </a:fld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ve Characterist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4876920"/>
            <a:ext cx="7391520" cy="1218960"/>
          </a:xfrm>
          <a:custGeom>
            <a:avLst/>
            <a:gdLst/>
            <a:ahLst/>
            <a:rect l="l" t="t" r="r" b="b"/>
            <a:pathLst>
              <a:path w="3456" h="768">
                <a:moveTo>
                  <a:pt x="0" y="768"/>
                </a:moveTo>
                <a:cubicBezTo>
                  <a:pt x="192" y="384"/>
                  <a:pt x="384" y="0"/>
                  <a:pt x="576" y="0"/>
                </a:cubicBezTo>
                <a:cubicBezTo>
                  <a:pt x="768" y="0"/>
                  <a:pt x="960" y="768"/>
                  <a:pt x="1152" y="768"/>
                </a:cubicBezTo>
                <a:cubicBezTo>
                  <a:pt x="1344" y="768"/>
                  <a:pt x="1536" y="0"/>
                  <a:pt x="1728" y="0"/>
                </a:cubicBezTo>
                <a:cubicBezTo>
                  <a:pt x="1920" y="0"/>
                  <a:pt x="2112" y="768"/>
                  <a:pt x="2304" y="768"/>
                </a:cubicBezTo>
                <a:cubicBezTo>
                  <a:pt x="2496" y="768"/>
                  <a:pt x="2688" y="0"/>
                  <a:pt x="2880" y="0"/>
                </a:cubicBezTo>
                <a:cubicBezTo>
                  <a:pt x="3072" y="0"/>
                  <a:pt x="3400" y="600"/>
                  <a:pt x="3456" y="768"/>
                </a:cubicBezTo>
              </a:path>
            </a:pathLst>
          </a:custGeom>
          <a:noFill/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3048120"/>
            <a:ext cx="3657600" cy="1981080"/>
          </a:xfrm>
          <a:custGeom>
            <a:avLst/>
            <a:gdLst/>
            <a:ahLst/>
            <a:rect l="l" t="t" r="r" b="b"/>
            <a:pathLst>
              <a:path w="3456" h="768">
                <a:moveTo>
                  <a:pt x="0" y="768"/>
                </a:moveTo>
                <a:cubicBezTo>
                  <a:pt x="192" y="384"/>
                  <a:pt x="384" y="0"/>
                  <a:pt x="576" y="0"/>
                </a:cubicBezTo>
                <a:cubicBezTo>
                  <a:pt x="768" y="0"/>
                  <a:pt x="960" y="768"/>
                  <a:pt x="1152" y="768"/>
                </a:cubicBezTo>
                <a:cubicBezTo>
                  <a:pt x="1344" y="768"/>
                  <a:pt x="1536" y="0"/>
                  <a:pt x="1728" y="0"/>
                </a:cubicBezTo>
                <a:cubicBezTo>
                  <a:pt x="1920" y="0"/>
                  <a:pt x="2112" y="768"/>
                  <a:pt x="2304" y="768"/>
                </a:cubicBezTo>
                <a:cubicBezTo>
                  <a:pt x="2496" y="768"/>
                  <a:pt x="2688" y="0"/>
                  <a:pt x="2880" y="0"/>
                </a:cubicBezTo>
                <a:cubicBezTo>
                  <a:pt x="3072" y="0"/>
                  <a:pt x="3400" y="600"/>
                  <a:pt x="3456" y="768"/>
                </a:cubicBezTo>
              </a:path>
            </a:pathLst>
          </a:custGeom>
          <a:noFill/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9880" y="1603440"/>
            <a:ext cx="858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  <a:ea typeface="Times New Roman"/>
              </a:rPr>
              <a:t>Wavelength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(lambda)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distance betwee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successive poin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114800" y="4800600"/>
            <a:ext cx="22096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95480" y="3048120"/>
            <a:ext cx="9907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52880" y="4876920"/>
            <a:ext cx="6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0m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8120" y="3124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2m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6BF4-D69B-4DA6-94F1-6E8FB27B38E4}" type="slidenum">
              <a:t>18</a:t>
            </a:fld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ve Characterist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  <a:ea typeface="Times New Roman"/>
              </a:rPr>
              <a:t>Frequency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(nu)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the number of complete wave cycles to pass a given point per unit of time; Cycles per secon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flipH="1" rot="10800000">
            <a:off x="7010280" y="380880"/>
            <a:ext cx="1227240" cy="1447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04920" y="5105520"/>
            <a:ext cx="4190760" cy="1066680"/>
          </a:xfrm>
          <a:custGeom>
            <a:avLst/>
            <a:gdLst/>
            <a:ahLst/>
            <a:rect l="l" t="t" r="r" b="b"/>
            <a:pathLst>
              <a:path w="3456" h="768">
                <a:moveTo>
                  <a:pt x="0" y="768"/>
                </a:moveTo>
                <a:cubicBezTo>
                  <a:pt x="192" y="384"/>
                  <a:pt x="384" y="0"/>
                  <a:pt x="576" y="0"/>
                </a:cubicBezTo>
                <a:cubicBezTo>
                  <a:pt x="768" y="0"/>
                  <a:pt x="960" y="768"/>
                  <a:pt x="1152" y="768"/>
                </a:cubicBezTo>
                <a:cubicBezTo>
                  <a:pt x="1344" y="768"/>
                  <a:pt x="1536" y="0"/>
                  <a:pt x="1728" y="0"/>
                </a:cubicBezTo>
                <a:cubicBezTo>
                  <a:pt x="1920" y="0"/>
                  <a:pt x="2112" y="768"/>
                  <a:pt x="2304" y="768"/>
                </a:cubicBezTo>
                <a:cubicBezTo>
                  <a:pt x="2496" y="768"/>
                  <a:pt x="2688" y="0"/>
                  <a:pt x="2880" y="0"/>
                </a:cubicBezTo>
                <a:cubicBezTo>
                  <a:pt x="3072" y="0"/>
                  <a:pt x="3400" y="600"/>
                  <a:pt x="3456" y="768"/>
                </a:cubicBezTo>
              </a:path>
            </a:pathLst>
          </a:custGeom>
          <a:noFill/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4952880"/>
            <a:ext cx="2057400" cy="1219320"/>
          </a:xfrm>
          <a:custGeom>
            <a:avLst/>
            <a:gdLst/>
            <a:ahLst/>
            <a:rect l="l" t="t" r="r" b="b"/>
            <a:pathLst>
              <a:path w="3456" h="768">
                <a:moveTo>
                  <a:pt x="0" y="768"/>
                </a:moveTo>
                <a:cubicBezTo>
                  <a:pt x="192" y="384"/>
                  <a:pt x="384" y="0"/>
                  <a:pt x="576" y="0"/>
                </a:cubicBezTo>
                <a:cubicBezTo>
                  <a:pt x="768" y="0"/>
                  <a:pt x="960" y="768"/>
                  <a:pt x="1152" y="768"/>
                </a:cubicBezTo>
                <a:cubicBezTo>
                  <a:pt x="1344" y="768"/>
                  <a:pt x="1536" y="0"/>
                  <a:pt x="1728" y="0"/>
                </a:cubicBezTo>
                <a:cubicBezTo>
                  <a:pt x="1920" y="0"/>
                  <a:pt x="2112" y="768"/>
                  <a:pt x="2304" y="768"/>
                </a:cubicBezTo>
                <a:cubicBezTo>
                  <a:pt x="2496" y="768"/>
                  <a:pt x="2688" y="0"/>
                  <a:pt x="2880" y="0"/>
                </a:cubicBezTo>
                <a:cubicBezTo>
                  <a:pt x="3072" y="0"/>
                  <a:pt x="3400" y="600"/>
                  <a:pt x="3456" y="768"/>
                </a:cubicBezTo>
              </a:path>
            </a:pathLst>
          </a:custGeom>
          <a:noFill/>
          <a:ln w="76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4572000"/>
            <a:ext cx="0" cy="17524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43200" y="4572000"/>
            <a:ext cx="0" cy="19051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91320" y="4572000"/>
            <a:ext cx="0" cy="17524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7620120" y="4495680"/>
            <a:ext cx="0" cy="1828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5680" y="414648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=0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29560" y="414648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=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29960" y="407052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=0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82800" y="39942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=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F8A4-4E21-47A9-9F28-0EC3E263FF01}" type="slidenum">
              <a:t>19</a:t>
            </a:fld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8395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assica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mocrit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alt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oms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therfor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3F7E-4CC3-44C6-B117-CC7F6B975E82}" type="slidenum">
              <a:t>2</a:t>
            </a:fld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Units for Frequency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/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hertz, Hz</a:t>
            </a:r>
            <a:br>
              <a:rPr sz="2800"/>
            </a:b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cause all electromagnetic waves travel at the speed of light, wavelength is determined by frequenc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w frequency = long wavelength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igh frequency = short wavelength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DEFF-1534-466F-B9E7-0EA4AFBE7000}" type="slidenum">
              <a:t>20</a:t>
            </a:fld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v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  <a:ea typeface="Times New Roman"/>
              </a:rPr>
              <a:t>Amplitud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maximum height of a wa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 flipH="1" rot="10800000">
            <a:off x="7010280" y="380880"/>
            <a:ext cx="1227240" cy="14479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676520" y="4267080"/>
            <a:ext cx="5486400" cy="1828800"/>
          </a:xfrm>
          <a:custGeom>
            <a:avLst/>
            <a:gdLst/>
            <a:ahLst/>
            <a:rect l="l" t="t" r="r" b="b"/>
            <a:pathLst>
              <a:path w="3456" h="768">
                <a:moveTo>
                  <a:pt x="0" y="768"/>
                </a:moveTo>
                <a:cubicBezTo>
                  <a:pt x="192" y="384"/>
                  <a:pt x="384" y="0"/>
                  <a:pt x="576" y="0"/>
                </a:cubicBezTo>
                <a:cubicBezTo>
                  <a:pt x="768" y="0"/>
                  <a:pt x="960" y="768"/>
                  <a:pt x="1152" y="768"/>
                </a:cubicBezTo>
                <a:cubicBezTo>
                  <a:pt x="1344" y="768"/>
                  <a:pt x="1536" y="0"/>
                  <a:pt x="1728" y="0"/>
                </a:cubicBezTo>
                <a:cubicBezTo>
                  <a:pt x="1920" y="0"/>
                  <a:pt x="2112" y="768"/>
                  <a:pt x="2304" y="768"/>
                </a:cubicBezTo>
                <a:cubicBezTo>
                  <a:pt x="2496" y="768"/>
                  <a:pt x="2688" y="0"/>
                  <a:pt x="2880" y="0"/>
                </a:cubicBezTo>
                <a:cubicBezTo>
                  <a:pt x="3072" y="0"/>
                  <a:pt x="3400" y="600"/>
                  <a:pt x="3456" y="768"/>
                </a:cubicBezTo>
              </a:path>
            </a:pathLst>
          </a:custGeom>
          <a:noFill/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743200"/>
            <a:ext cx="5486400" cy="1219320"/>
          </a:xfrm>
          <a:custGeom>
            <a:avLst/>
            <a:gdLst/>
            <a:ahLst/>
            <a:rect l="l" t="t" r="r" b="b"/>
            <a:pathLst>
              <a:path w="3456" h="768">
                <a:moveTo>
                  <a:pt x="0" y="768"/>
                </a:moveTo>
                <a:cubicBezTo>
                  <a:pt x="192" y="384"/>
                  <a:pt x="384" y="0"/>
                  <a:pt x="576" y="0"/>
                </a:cubicBezTo>
                <a:cubicBezTo>
                  <a:pt x="768" y="0"/>
                  <a:pt x="960" y="768"/>
                  <a:pt x="1152" y="768"/>
                </a:cubicBezTo>
                <a:cubicBezTo>
                  <a:pt x="1344" y="768"/>
                  <a:pt x="1536" y="0"/>
                  <a:pt x="1728" y="0"/>
                </a:cubicBezTo>
                <a:cubicBezTo>
                  <a:pt x="1920" y="0"/>
                  <a:pt x="2112" y="768"/>
                  <a:pt x="2304" y="768"/>
                </a:cubicBezTo>
                <a:cubicBezTo>
                  <a:pt x="2496" y="768"/>
                  <a:pt x="2688" y="0"/>
                  <a:pt x="2880" y="0"/>
                </a:cubicBezTo>
                <a:cubicBezTo>
                  <a:pt x="3072" y="0"/>
                  <a:pt x="3400" y="600"/>
                  <a:pt x="3456" y="768"/>
                </a:cubicBezTo>
              </a:path>
            </a:pathLst>
          </a:custGeom>
          <a:noFill/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3352680"/>
            <a:ext cx="5638680" cy="0"/>
          </a:xfrm>
          <a:prstGeom prst="line">
            <a:avLst/>
          </a:prstGeom>
          <a:ln w="3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76520" y="5181480"/>
            <a:ext cx="5638680" cy="0"/>
          </a:xfrm>
          <a:prstGeom prst="line">
            <a:avLst/>
          </a:prstGeom>
          <a:ln w="3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43400" y="28195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19720" y="4343400"/>
            <a:ext cx="0" cy="83808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8099-92EA-47F0-B748-3FE64B03E78E}" type="slidenum">
              <a:t>21</a:t>
            </a:fld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v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  <a:ea typeface="Times New Roman"/>
              </a:rPr>
              <a:t>Nod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points of zero amplitud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 flipH="1" rot="10800000">
            <a:off x="7010280" y="380880"/>
            <a:ext cx="1227240" cy="14479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828800" y="3657600"/>
            <a:ext cx="5486400" cy="1219320"/>
          </a:xfrm>
          <a:custGeom>
            <a:avLst/>
            <a:gdLst/>
            <a:ahLst/>
            <a:rect l="l" t="t" r="r" b="b"/>
            <a:pathLst>
              <a:path w="3456" h="768">
                <a:moveTo>
                  <a:pt x="0" y="768"/>
                </a:moveTo>
                <a:cubicBezTo>
                  <a:pt x="192" y="384"/>
                  <a:pt x="384" y="0"/>
                  <a:pt x="576" y="0"/>
                </a:cubicBezTo>
                <a:cubicBezTo>
                  <a:pt x="768" y="0"/>
                  <a:pt x="960" y="768"/>
                  <a:pt x="1152" y="768"/>
                </a:cubicBezTo>
                <a:cubicBezTo>
                  <a:pt x="1344" y="768"/>
                  <a:pt x="1536" y="0"/>
                  <a:pt x="1728" y="0"/>
                </a:cubicBezTo>
                <a:cubicBezTo>
                  <a:pt x="1920" y="0"/>
                  <a:pt x="2112" y="768"/>
                  <a:pt x="2304" y="768"/>
                </a:cubicBezTo>
                <a:cubicBezTo>
                  <a:pt x="2496" y="768"/>
                  <a:pt x="2688" y="0"/>
                  <a:pt x="2880" y="0"/>
                </a:cubicBezTo>
                <a:cubicBezTo>
                  <a:pt x="3072" y="0"/>
                  <a:pt x="3400" y="600"/>
                  <a:pt x="3456" y="768"/>
                </a:cubicBezTo>
              </a:path>
            </a:pathLst>
          </a:custGeom>
          <a:noFill/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05120" y="3809880"/>
            <a:ext cx="152280" cy="3812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200040" y="3733920"/>
            <a:ext cx="228600" cy="4572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7400" y="4267080"/>
            <a:ext cx="51055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1828800" y="3656520"/>
            <a:ext cx="5486400" cy="1219320"/>
          </a:xfrm>
          <a:custGeom>
            <a:avLst/>
            <a:gdLst/>
            <a:ahLst/>
            <a:rect l="l" t="t" r="r" b="b"/>
            <a:pathLst>
              <a:path w="3456" h="768">
                <a:moveTo>
                  <a:pt x="0" y="768"/>
                </a:moveTo>
                <a:cubicBezTo>
                  <a:pt x="192" y="384"/>
                  <a:pt x="384" y="0"/>
                  <a:pt x="576" y="0"/>
                </a:cubicBezTo>
                <a:cubicBezTo>
                  <a:pt x="768" y="0"/>
                  <a:pt x="960" y="768"/>
                  <a:pt x="1152" y="768"/>
                </a:cubicBezTo>
                <a:cubicBezTo>
                  <a:pt x="1344" y="768"/>
                  <a:pt x="1536" y="0"/>
                  <a:pt x="1728" y="0"/>
                </a:cubicBezTo>
                <a:cubicBezTo>
                  <a:pt x="1920" y="0"/>
                  <a:pt x="2112" y="768"/>
                  <a:pt x="2304" y="768"/>
                </a:cubicBezTo>
                <a:cubicBezTo>
                  <a:pt x="2496" y="768"/>
                  <a:pt x="2688" y="0"/>
                  <a:pt x="2880" y="0"/>
                </a:cubicBezTo>
                <a:cubicBezTo>
                  <a:pt x="3072" y="0"/>
                  <a:pt x="3400" y="600"/>
                  <a:pt x="3456" y="768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167A-FEAF-4551-93E6-170890677960}" type="slidenum">
              <a:t>22</a:t>
            </a:fld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ectromagnetic Spectru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adio &amp; TV, microwaves, UV, infrared, visible light = all are examples of electromagnetic radiation (and radiant energy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ectromagnetic spectrum: entire range of electromagnetic radi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D948-A6ED-4A32-83FB-162AA2A40A47}" type="slidenum">
              <a:t>23</a:t>
            </a:fld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ectromagnetic Spectru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2362320"/>
            <a:ext cx="73152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4876920"/>
            <a:ext cx="73915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33720" y="2438280"/>
            <a:ext cx="0" cy="2438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8120" y="2362320"/>
            <a:ext cx="0" cy="2514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57600" y="2362320"/>
            <a:ext cx="0" cy="25905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2362320"/>
            <a:ext cx="0" cy="2514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2362320"/>
            <a:ext cx="0" cy="25905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5880" y="2362320"/>
            <a:ext cx="0" cy="25905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2362320"/>
            <a:ext cx="0" cy="2514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10280" y="2362320"/>
            <a:ext cx="0" cy="2514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2120" y="198108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24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  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43000" y="19810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18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16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14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87880" y="1981080"/>
            <a:ext cx="22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12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10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8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-1143000" y="32767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Gamma     Xrays      UV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19720" y="3352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Microwaves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FM  AM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38480" y="3505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4648320"/>
            <a:ext cx="0" cy="6094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58640" y="53341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isible Ligh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315200" y="1676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requency Hz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57680" y="4952880"/>
            <a:ext cx="55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-16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  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-9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 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-8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    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-6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    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-3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   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  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68880" y="495288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avelength  m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1D8F-260E-467B-A47A-E82F093232F5}" type="slidenum">
              <a:t>24</a:t>
            </a:fld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igher-frequency electromagnetic waves have higher energy than lower-frequency electromagnetic wav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l forms of electromagnetic energy interact with matter, and the ability of these different waves to penetrate matter is a measure of the energy of the wav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BC58-5A97-49ED-B842-B075E2C72FAE}" type="slidenum">
              <a:t>25</a:t>
            </a:fld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your favorite radio station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adio stations are identified by their frequency in MHz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 know all electromagnetic radiation(which includes radio waves) travel at the speed of ligh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s the wavelength of your favorite statio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C4FD-F03B-4E5F-BBBF-2A092BD6D197}" type="slidenum">
              <a:t>26</a:t>
            </a:fld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locity of a Wav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Velocity of a wave (m/s) = wavelength (m) x frequency (1/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c =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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= speed of light = 3.00x10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</a:rPr>
              <a:t>8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/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y favorite radio station is 105.9 Jamming Oldies!!!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s the wavelength of this FM statio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5F0F-7D30-482E-B0F3-1C2D373F656C}" type="slidenum">
              <a:t>27</a:t>
            </a:fld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velength of F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c  =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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= speed of light = 3.00x10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</a:rPr>
              <a:t>8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/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= 105.9MHz or 1.059x10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8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Hz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= c/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=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3.00x10</a:t>
            </a:r>
            <a:r>
              <a:rPr b="0" lang="en-US" sz="3200" spc="-1" strike="noStrike" u="sng" baseline="30000">
                <a:solidFill>
                  <a:srgbClr val="40458c"/>
                </a:solidFill>
                <a:uFillTx/>
                <a:latin typeface="Tahoma"/>
              </a:rPr>
              <a:t>8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m/s =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2.83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1.059x10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8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1/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796D-E071-43BC-9DAC-6D9593C57A25}" type="slidenum">
              <a:t>28</a:t>
            </a:fld>
          </a:p>
        </p:txBody>
      </p: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What does the electromagnetic spectrum have to do with electrons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t’s all related to energy – energy  of motion(of electrons) and energy of ligh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089F-AC6F-4FF4-8D11-D59D16036341}" type="slidenum">
              <a:t>29</a:t>
            </a:fld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mocritu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irca 400 B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reek philosophe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uggested that all matter is composed of tiny, indivisible particles, called ato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B276-DDAF-48A6-87D5-43469E440BB0}" type="slidenum">
              <a:t>3</a:t>
            </a:fld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ates of Electr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en current is passed through a gas at a low pressure, the potential energy (energy due to position) of some of the gas atoms increas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round State: the lowest energy state of an ato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cited State: a state in which the atom has a higher potential energy than it had in its ground sta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4AC6-C061-4B0D-A54D-89A818C11323}" type="slidenum">
              <a:t>30</a:t>
            </a:fld>
          </a:p>
        </p:txBody>
      </p:sp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on Sig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en an excited atom returns to its ground state it gives off the energy it gained in the form of electromagnetic radiation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glow of neon signs,is an example of this proces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4B5A-758B-4DDD-8BBE-05A0D2B6EC3C}" type="slidenum">
              <a:t>31</a:t>
            </a:fld>
          </a:p>
        </p:txBody>
      </p:sp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ite Ligh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ite light is composed of all of the colors of the spectrum = ROY G BIV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en white light is passed through a prism, the light is separated into a spectrum, of all the colo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are rainbow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F185-8C34-4BC4-B77F-A27263921766}" type="slidenum">
              <a:t>32</a:t>
            </a:fld>
          </a:p>
        </p:txBody>
      </p:sp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e-emission Spectru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en an electric current is passed through a vacuum tube containing H</a:t>
            </a:r>
            <a:r>
              <a:rPr b="0" lang="en-US" sz="32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gas at low pressure, and emission of a pinkish glow is observe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do you think happens when that pink glow is passed through a prism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1383-DE73-424C-8727-28264EDDAD49}" type="slidenum">
              <a:t>33</a:t>
            </a:fld>
          </a:p>
        </p:txBody>
      </p:sp>
    </p:spTree>
  </p:cSld>
  <p:transition spd="med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ydrogen’s Emission Spectru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pink light consisted of just a few specific frequencies, not the whole range of colors as with white ligh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cientists had expected to see a continuous range of frequencies of electromagnetic radiation, because the hydrogen atoms were excited by whatever amount of energy was added to them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d to a new theory of the ato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A078-428F-41EE-8FBC-76E8331EC33E}" type="slidenum">
              <a:t>34</a:t>
            </a:fld>
          </a:p>
        </p:txBody>
      </p:sp>
    </p:spTree>
  </p:cSld>
  <p:transition spd="med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hr’s Model of Hydrogen Ato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ydrogen did not produce a continuous spectru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w model was needed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ectrons can circle the nucleus only in allowed paths or orbi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en an e- is in one of these orbits, the atom has a fixed, definite energ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- and hydrogen atom are in its lowest energy state when it is in the orbit closest to the nucle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A2C7-C6F8-4709-B314-A7E5DA496CA3}" type="slidenum">
              <a:t>35</a:t>
            </a:fld>
          </a:p>
        </p:txBody>
      </p:sp>
    </p:spTree>
  </p:cSld>
  <p:transition spd="med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hr Model Continued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rbits are separated by empty space, where e- cannot exi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ergy of e- increases as it moves to orbits farther and farther from the nucle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(Similar to a person climbing a ladder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75D6-C2F0-4452-9740-C6386D010D72}" type="slidenum">
              <a:t>36</a:t>
            </a:fld>
          </a:p>
        </p:txBody>
      </p:sp>
    </p:spTree>
  </p:cSld>
  <p:transition spd="med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hr Model and Hydrogen Spectru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ile in orbit, e- can neither gain or lose ener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ut, e- can gain energy equal to the difference between higher and lower orbitals, and therefore move to the higher orbital (Absorptio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en e- falls from higher state to lower state, energy is emitted (Emissio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DB74-8F6A-4987-BA48-8CB0BCCEF1DE}" type="slidenum">
              <a:t>37</a:t>
            </a:fld>
          </a:p>
        </p:txBody>
      </p:sp>
    </p:spTree>
  </p:cSld>
  <p:transition spd="med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hr’s Calcula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sed on the wavelengths of hydrogen’s line-emission spectrum, Bohr calculated the energies that an e- would have in the allowed energy levels for the hydrogen ato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1658-02FD-4737-93C4-F9E297E74EB8}" type="slidenum">
              <a:t>38</a:t>
            </a:fld>
          </a:p>
        </p:txBody>
      </p:sp>
    </p:spTree>
  </p:cSld>
  <p:transition spd="med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hotoelectric Effec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 observed phenomenon, early 1900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en light was shone on a metal, electrons were emitted from that met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ght was known to be a form of energy, capable of knocking loose an electron from a met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refore, light of any frequency could supply enough energy to eject an electro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F81C-9528-4B5A-9F2B-2268ED162382}" type="slidenum">
              <a:t>39</a:t>
            </a:fld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8395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alton’s Atomic Theory (1808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ll matter is made of tiny indivisible particles called atoms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toms of the same element are identical. The atoms of any one element are different from those of any other elemen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toms of different elements can combine with one another in simple whole number ratios to form compound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Chemical reactions occur when atoms are separated, joined, or rearranged;however, atoms of one element are not changed into atoms of another by a chemical reactio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FA7D-263F-4858-BD7D-EADE2B0EC98B}" type="slidenum">
              <a:t>4</a:t>
            </a:fld>
          </a:p>
        </p:txBody>
      </p:sp>
    </p:spTree>
  </p:cSld>
  <p:transition spd="med"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hotoelectric Effect pg. 9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Light strikes the surface of a metal (cathode), and e- are ejecte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These ejected e- move from the cathode to the anode, and current flows in the cel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 minimum frequency of light is used.  If the frequency is above the minimum and the intensity of the light is increased, more e- are ejecte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5D1A-B870-4A17-9242-3D7FD54B28E0}" type="slidenum">
              <a:t>40</a:t>
            </a:fld>
          </a:p>
        </p:txBody>
      </p:sp>
    </p:spTree>
  </p:cSld>
  <p:transition spd="med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hotoelectric Effec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bserved: For a given metal, no electrons were emitted if the light’s frequency was below a certain minimum, no matter how long the light was sho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y does the light have to be of a minimum frequency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4347-8EFA-4FAF-B046-ABE7568BE9DF}" type="slidenum">
              <a:t>41</a:t>
            </a:fld>
          </a:p>
        </p:txBody>
      </p:sp>
    </p:spTree>
  </p:cSld>
  <p:transition spd="med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planation…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x Planck studied the emission of light by hot objec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posed: objects emit energy in small, specific amounts = quant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Differs from wave theory which would say objects emit electromagnetic radiation continuously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Quantum: is the minimum quantity of energy that can be lost or gained by an atom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42D5-B7FA-4696-BD12-A5A11F5F1117}" type="slidenum">
              <a:t>42</a:t>
            </a:fld>
          </a:p>
        </p:txBody>
      </p:sp>
    </p:spTree>
  </p:cSld>
  <p:transition spd="med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lanck’s Equ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E </a:t>
            </a:r>
            <a:r>
              <a:rPr b="0" lang="en-US" sz="3200" spc="-1" strike="noStrike" baseline="-30000">
                <a:solidFill>
                  <a:srgbClr val="40458c"/>
                </a:solidFill>
                <a:latin typeface="Tahoma"/>
                <a:ea typeface="Times New Roman"/>
              </a:rPr>
              <a:t>radiation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= Planck’s constant x frequency of radi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E = h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h = Planck’s constant = 6.626 x 10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-34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J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•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When an object emits radiation, there must be a minimum quantity of energy that can be emitted at any given tim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29F5-38D9-4D0E-95F8-82ECAB751A4F}" type="slidenum">
              <a:t>43</a:t>
            </a:fld>
          </a:p>
        </p:txBody>
      </p:sp>
    </p:spTree>
  </p:cSld>
  <p:transition spd="med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instein Expands Planck’s Theo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orized that electromagnetic radiation had a dual wave-particle nature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ehaves like waves and partic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nk of light as particles that each carry one quantum of energy =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phot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B19D-ABD2-464D-AF11-6FC823DE8C35}" type="slidenum">
              <a:t>44</a:t>
            </a:fld>
          </a:p>
        </p:txBody>
      </p:sp>
    </p:spTree>
  </p:cSld>
  <p:transition spd="med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hot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hotons: a particle of electromagnetic radiation having zero mass and carrying a quantum of ener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</a:t>
            </a:r>
            <a:r>
              <a:rPr b="0" lang="en-US" sz="3200" spc="-1" strike="noStrike" baseline="-25000">
                <a:solidFill>
                  <a:srgbClr val="40458c"/>
                </a:solidFill>
                <a:latin typeface="Tahoma"/>
              </a:rPr>
              <a:t>photon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h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D357-CCDD-4F67-B828-EB42B42E5E7B}" type="slidenum">
              <a:t>45</a:t>
            </a:fld>
          </a:p>
        </p:txBody>
      </p:sp>
    </p:spTree>
  </p:cSld>
  <p:transition spd="med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ack to Photoelectric Effec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instein concluded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ectromagnetic radiation is absorbed by matter only in whole numbers of phot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 order for an e- to be ejected, the e- must be struck by a single photon with minimum frequenc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EF1C-78C7-4422-B430-A0CBF7671ED0}" type="slidenum">
              <a:t>46</a:t>
            </a:fld>
          </a:p>
        </p:txBody>
      </p:sp>
    </p:spTree>
  </p:cSld>
  <p:transition spd="med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ample of Planck’s Equ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CD players use lasers that emit red light with a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of 685 nm.  Calculate the energy of one photo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erent metals require different minimum frequencies to exhibit photoelectric eff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0A18-E120-4B74-A8CA-9E0E6C1FFDFD}" type="slidenum">
              <a:t>47</a:t>
            </a:fld>
          </a:p>
        </p:txBody>
      </p:sp>
    </p:spTree>
  </p:cSld>
  <p:transition spd="med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sw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Tahoma"/>
              </a:rPr>
              <a:t>photo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=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h</a:t>
            </a:r>
            <a:r>
              <a:rPr b="0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h = Planck’s constant = 6.626 x 10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-34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J</a:t>
            </a:r>
            <a:r>
              <a:rPr b="0" lang="en-US" sz="1600" spc="-1" strike="noStrike" baseline="30000">
                <a:solidFill>
                  <a:srgbClr val="40458c"/>
                </a:solidFill>
                <a:latin typeface="Tahoma"/>
              </a:rPr>
              <a:t>•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c  = </a:t>
            </a:r>
            <a:r>
              <a:rPr b="0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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= speed of light = 3.00x10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8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/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= (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.00x10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8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/s)/(6.85x10-7m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=4.37x10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14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/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Tahoma"/>
              </a:rPr>
              <a:t>photo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= (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6.626 x 10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-34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J</a:t>
            </a:r>
            <a:r>
              <a:rPr b="0" lang="en-US" sz="1600" spc="-1" strike="noStrike" baseline="30000">
                <a:solidFill>
                  <a:srgbClr val="40458c"/>
                </a:solidFill>
                <a:latin typeface="Tahoma"/>
              </a:rPr>
              <a:t>•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)(4.37x10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14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/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E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Tahoma"/>
              </a:rPr>
              <a:t>photon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= 2.90 x 10</a:t>
            </a:r>
            <a:r>
              <a:rPr b="1" lang="en-US" sz="2800" spc="-1" strike="noStrike" baseline="30000">
                <a:solidFill>
                  <a:srgbClr val="40458c"/>
                </a:solidFill>
                <a:latin typeface="Tahoma"/>
              </a:rPr>
              <a:t>-19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7D9-94DA-499E-9B82-38CE86FB30E9}" type="slidenum">
              <a:t>48</a:t>
            </a:fld>
          </a:p>
        </p:txBody>
      </p:sp>
    </p:spTree>
  </p:cSld>
  <p:transition spd="med"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ve Nature of Electrons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 know electrons behave as partic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 1925, Louis de Broglie suggested that electrons might also display wave properti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FEB1-6C15-41B2-A5A3-8984A83FDA44}" type="slidenum">
              <a:t>49</a:t>
            </a:fld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8395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J.J. Thomson (1897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termined the charge to mass ratio for electr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pplied electric and magnetic fields to cathode ray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lum pudding” model of the ato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0" name="model" descr=""/>
          <p:cNvPicPr/>
          <p:nvPr/>
        </p:nvPicPr>
        <p:blipFill>
          <a:blip r:embed="rId4"/>
          <a:stretch/>
        </p:blipFill>
        <p:spPr>
          <a:xfrm>
            <a:off x="1828800" y="4724280"/>
            <a:ext cx="4876920" cy="192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5FB9-A8A0-48A2-A0F7-7815FBBF220B}" type="slidenum">
              <a:t>5</a:t>
            </a:fld>
          </a:p>
        </p:txBody>
      </p:sp>
    </p:spTree>
  </p:cSld>
  <p:transition spd="med"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 Broglie’s Equ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A free e- of mass (m) moving with a velocity (v) should have an associated wavelength: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= h/mv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Linked particle properties (m and v) with a wave property (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F383-2F08-48F2-B634-6C09A22064A4}" type="slidenum">
              <a:t>50</a:t>
            </a:fld>
          </a:p>
        </p:txBody>
      </p:sp>
    </p:spTree>
  </p:cSld>
  <p:transition spd="med"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ample of de Broglie’s Equ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Calculate the wavelength associated with an e- of mass 9.109x10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-28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g traveling at 40.0% the speed of light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1 J = 1 kg m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/s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C4DB-2CE2-4D13-9ACB-73989F016C62}" type="slidenum">
              <a:t>51</a:t>
            </a:fld>
          </a:p>
        </p:txBody>
      </p:sp>
    </p:spTree>
  </p:cSld>
  <p:transition spd="med"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sw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=(3.00x10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/s)(.40)=1.2x10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/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= h/mv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=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(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  <a:ea typeface="Times New Roman"/>
              </a:rPr>
              <a:t>6.626 x 10</a:t>
            </a:r>
            <a:r>
              <a:rPr b="0" lang="en-US" sz="3200" spc="-1" strike="noStrike" u="sng" baseline="30000">
                <a:solidFill>
                  <a:srgbClr val="40458c"/>
                </a:solidFill>
                <a:uFillTx/>
                <a:latin typeface="Tahoma"/>
                <a:ea typeface="Times New Roman"/>
              </a:rPr>
              <a:t>-34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  <a:ea typeface="Times New Roman"/>
              </a:rPr>
              <a:t> J</a:t>
            </a:r>
            <a:r>
              <a:rPr b="0" lang="en-US" sz="1800" spc="-1" strike="noStrike" u="sng" baseline="30000">
                <a:solidFill>
                  <a:srgbClr val="40458c"/>
                </a:solidFill>
                <a:uFillTx/>
                <a:latin typeface="Tahoma"/>
              </a:rPr>
              <a:t>•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  <a:ea typeface="Times New Roman"/>
              </a:rPr>
              <a:t>s) 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=6.06x10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-12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(9.11x10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-31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kg)(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.2x10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/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Remember 1J = 1(kg)(m)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/s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AEBF-F981-4F15-B36E-820EE38B01AC}" type="slidenum">
              <a:t>52</a:t>
            </a:fld>
          </a:p>
        </p:txBody>
      </p:sp>
    </p:spTree>
  </p:cSld>
  <p:transition spd="med"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ve-Particle Duali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de Broglie’s experiments suggested that e- has wave-like properties.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Thomson’s experiments suggested that e- has particle-like propertie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measured charge-to-mass rat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3110-BE3B-4511-B619-D0788AD11218}" type="slidenum">
              <a:t>53</a:t>
            </a:fld>
          </a:p>
        </p:txBody>
      </p:sp>
    </p:spTree>
  </p:cSld>
  <p:transition spd="med"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antum mechanical model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h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Ö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ng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eisenber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ul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und</a:t>
            </a:r>
            <a:br>
              <a:rPr sz="3200"/>
            </a:b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C57F-C7A2-48FB-8AAB-EFFF765B21D6}" type="slidenum">
              <a:t>54</a:t>
            </a:fld>
          </a:p>
        </p:txBody>
      </p:sp>
    </p:spTree>
  </p:cSld>
  <p:transition spd="med"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ere are the e- in the atom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- have a dual wave-particle na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e- act like waves and particles at the same time, where are they in the atom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rst consider a theory by German theoretical physicist, Werner Heisenber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1A07-4A31-4041-8815-BC4DA73FAE3B}" type="slidenum">
              <a:t>55</a:t>
            </a:fld>
          </a:p>
        </p:txBody>
      </p:sp>
    </p:spTree>
  </p:cSld>
  <p:transition spd="med"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eisenberg’s Ide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- are detected by their interactions with phot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hotons have about the same energy as e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y attempt to locate a specific e- with a photon knocks the e- off its cour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WAYS a basic uncertainty in trying to locate an e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EF23-50DF-45DB-A5AF-F80D4A00908A}" type="slidenum">
              <a:t>56</a:t>
            </a:fld>
          </a:p>
        </p:txBody>
      </p:sp>
    </p:spTree>
  </p:cSld>
  <p:transition spd="med">
    <p:dissolv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eisenberg’s Uncertainty Princi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Impossible to determine both the position and the momentum of an e- in an atom simultaneously with great certaint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D56E-93B8-4489-B273-9B396892908B}" type="slidenum">
              <a:t>57</a:t>
            </a:fld>
          </a:p>
        </p:txBody>
      </p:sp>
    </p:spTree>
  </p:cSld>
  <p:transition spd="med"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ch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Ö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nger’s Wave Equ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 equation that treated electrons in atoms as wav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nly waves of specific energies, and therefore frequencies, provided solutions to the equ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Quantization of e- energies was a natural outcom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4932-96DF-4D12-970D-219AB89CF6D2}" type="slidenum">
              <a:t>58</a:t>
            </a:fld>
          </a:p>
        </p:txBody>
      </p:sp>
    </p:spTree>
  </p:cSld>
  <p:transition spd="med">
    <p:dissolv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ch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Ö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nger’s Wave Equ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lutions are known as wave func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ave functions give ONLY the probability of finding and e- at a given place around the nucle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- not in neat orbits, but exist in regions called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orbit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CAD3-E041-428F-B172-7A0C327DD2B2}" type="slidenum">
              <a:t>59</a:t>
            </a:fld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utherford’s Gold Foil Experiment (1910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pha particles (positively charged helium ions) from a radioactive source was directed toward a very thin gold foi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fluorescent screen was placed behind the Au foil to detect the scattering of alpha (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) particl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407A-880E-4627-B4F0-DF4B08CEDF7B}" type="slidenum">
              <a:t>6</a:t>
            </a:fld>
          </a:p>
        </p:txBody>
      </p:sp>
    </p:spTree>
  </p:cSld>
  <p:transition spd="med">
    <p:dissolv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ch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Ö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nger’s Wave Equ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ere is the equ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n’t memorize this or write it dow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t is a differential equation, and we need calculus to solve i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     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-h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(</a:t>
            </a:r>
            <a:r>
              <a:rPr b="0" i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ә</a:t>
            </a:r>
            <a:r>
              <a:rPr b="0" i="1" lang="en-US" sz="2800" spc="-1" strike="noStrike" u="sng" baseline="30000">
                <a:solidFill>
                  <a:srgbClr val="40458c"/>
                </a:solidFill>
                <a:uFillTx/>
                <a:latin typeface="Tahoma"/>
              </a:rPr>
              <a:t>2</a:t>
            </a:r>
            <a:r>
              <a:rPr b="0" i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 Ψ )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i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 (ә</a:t>
            </a:r>
            <a:r>
              <a:rPr b="0" i="1" lang="en-US" sz="2800" spc="-1" strike="noStrike" u="sng" baseline="30000">
                <a:solidFill>
                  <a:srgbClr val="40458c"/>
                </a:solidFill>
                <a:uFillTx/>
                <a:latin typeface="Tahoma"/>
              </a:rPr>
              <a:t>2</a:t>
            </a:r>
            <a:r>
              <a:rPr b="0" i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Ψ )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+(</a:t>
            </a:r>
            <a:r>
              <a:rPr b="0" i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 ә</a:t>
            </a:r>
            <a:r>
              <a:rPr b="0" i="1" lang="en-US" sz="2800" spc="-1" strike="noStrike" u="sng" baseline="30000">
                <a:solidFill>
                  <a:srgbClr val="40458c"/>
                </a:solidFill>
                <a:uFillTx/>
                <a:latin typeface="Tahoma"/>
              </a:rPr>
              <a:t>2</a:t>
            </a:r>
            <a:r>
              <a:rPr b="0" i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Ψ )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 +Vψ =Eψ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8(</a:t>
            </a:r>
            <a:r>
              <a:rPr b="0" lang="el-GR" sz="2800" spc="-1" strike="noStrike">
                <a:solidFill>
                  <a:srgbClr val="40458c"/>
                </a:solidFill>
                <a:latin typeface="Tahoma"/>
              </a:rPr>
              <a:t>π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     (әx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)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(әy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)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(әz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cary?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EC7F-43FE-45A7-94F8-FF4CEE5CFE04}" type="slidenum">
              <a:t>60</a:t>
            </a:fld>
          </a:p>
        </p:txBody>
      </p:sp>
    </p:spTree>
  </p:cSld>
  <p:transition spd="med">
    <p:dissolv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bability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likelihoo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rbital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wave function; region in space where the probability of finding an electron is hig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h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Ö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nger’s Wave Equation states that orbitals have quantized energi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ut there are other characteristics to describe orbitals besides ener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fini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423E-2573-42BE-AF45-07C8BF73A74B}" type="slidenum">
              <a:t>61</a:t>
            </a:fld>
          </a:p>
        </p:txBody>
      </p:sp>
    </p:spTree>
  </p:cSld>
  <p:transition spd="med">
    <p:dissolv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antum Numb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finition: specify the properties of atomic orbitals and the properties of electrons in orbit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re are four quantum numb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first three are results from Sch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Ö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nger’s Wave Equation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50E5-CF0E-42CE-AE88-279BAB1C330A}" type="slidenum">
              <a:t>62</a:t>
            </a:fld>
          </a:p>
        </p:txBody>
      </p:sp>
    </p:spTree>
  </p:cSld>
  <p:transition spd="med">
    <p:dissolv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antum Numbers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incipal Quantum Number, 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6FA1-5C0B-4623-A4B7-B47F1BAC10F1}" type="slidenum">
              <a:t>63</a:t>
            </a:fld>
          </a:p>
        </p:txBody>
      </p:sp>
    </p:spTree>
  </p:cSld>
  <p:transition spd="med"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antum Numb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incipal Quantum Number, 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alues of n = 1,2,3,… </a:t>
            </a:r>
            <a:r>
              <a:rPr b="0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sitive integers only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dicates the main energy level occupied by the electr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B93A-3DB7-40C3-AD52-43BFABEC747A}" type="slidenum">
              <a:t>64</a:t>
            </a:fld>
          </a:p>
        </p:txBody>
      </p:sp>
    </p:spTree>
  </p:cSld>
  <p:transition spd="med">
    <p:dissolv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antum Numb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incipal Quantum Number, 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alues of n = 1,2,3,… </a:t>
            </a:r>
            <a:r>
              <a:rPr b="0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scribes the energy level, orbital siz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3D80-2B33-4E69-AFF9-1D7CE09FC5F4}" type="slidenum">
              <a:t>65</a:t>
            </a:fld>
          </a:p>
        </p:txBody>
      </p:sp>
    </p:spTree>
  </p:cSld>
  <p:transition spd="med">
    <p:dissolv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antum Numb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incipal Quantum Number, 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alues of n = 1,2,3,… </a:t>
            </a:r>
            <a:r>
              <a:rPr b="0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scribes the energy level, orbital siz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s n increases, orbital size increas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E968-D0B9-4350-9FB7-EA7866DA1B7C}" type="slidenum">
              <a:t>66</a:t>
            </a:fld>
          </a:p>
        </p:txBody>
      </p:sp>
    </p:spTree>
  </p:cSld>
  <p:transition spd="med">
    <p:dissolv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le Quantum Numb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914400" y="1599840"/>
            <a:ext cx="0" cy="44197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14400" y="5791320"/>
            <a:ext cx="32004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14400" y="3657600"/>
            <a:ext cx="32004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90720" y="2743200"/>
            <a:ext cx="31240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90720" y="2438280"/>
            <a:ext cx="30477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2133720"/>
            <a:ext cx="31240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90720" y="1828800"/>
            <a:ext cx="31240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47200" y="54421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 = 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052520" y="330840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=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068360" y="243828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=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36760" y="205740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=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24160" y="175248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=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24160" y="144792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=6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-23040" y="327672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nerg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F734-855E-4E86-859C-0B5181E8902A}" type="slidenum">
              <a:t>67</a:t>
            </a:fld>
          </a:p>
        </p:txBody>
      </p:sp>
    </p:spTree>
  </p:cSld>
  <p:transition spd="med">
    <p:dissolv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le Quantum Numb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re than one e- can have the same n valu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se e- are said to be in the same e- shel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total number of orbitals that exist in a given shell = n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E12A-E26E-4821-9100-3FBA7C8A6784}" type="slidenum">
              <a:t>68</a:t>
            </a:fld>
          </a:p>
        </p:txBody>
      </p:sp>
    </p:spTree>
  </p:cSld>
  <p:transition spd="med">
    <p:dissolv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antum Numbers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gular momentum quantum number, </a:t>
            </a:r>
            <a:r>
              <a:rPr b="0" i="1" lang="en-US" sz="3600" spc="-1" strike="noStrike">
                <a:solidFill>
                  <a:srgbClr val="40458c"/>
                </a:solidFill>
                <a:latin typeface="Bookman Old Style"/>
              </a:rPr>
              <a:t>l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6E06-C3DD-4443-B736-0E741038E10D}" type="slidenum">
              <a:t>69</a:t>
            </a:fld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828800" y="6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4" name="gold" descr=""/>
          <p:cNvPicPr/>
          <p:nvPr/>
        </p:nvPicPr>
        <p:blipFill>
          <a:blip r:embed="rId1"/>
          <a:stretch/>
        </p:blipFill>
        <p:spPr>
          <a:xfrm>
            <a:off x="1828800" y="604800"/>
            <a:ext cx="5486400" cy="5648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8182-B294-4078-8AD9-B61BF54A316F}" type="slidenum">
              <a:t>7</a:t>
            </a:fld>
          </a:p>
        </p:txBody>
      </p:sp>
    </p:spTree>
  </p:cSld>
  <p:transition spd="med">
    <p:dissolv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antum Numb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gular momentum quantum number, </a:t>
            </a:r>
            <a:r>
              <a:rPr b="0" i="1" lang="en-US" sz="3600" spc="-1" strike="noStrike">
                <a:solidFill>
                  <a:srgbClr val="40458c"/>
                </a:solidFill>
                <a:latin typeface="Bookman Old Style"/>
              </a:rPr>
              <a:t>l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lues of </a:t>
            </a:r>
            <a:r>
              <a:rPr b="0" i="1" lang="en-US" sz="3200" spc="-1" strike="noStrike">
                <a:solidFill>
                  <a:srgbClr val="40458c"/>
                </a:solidFill>
                <a:latin typeface="Bookman Old Style"/>
              </a:rPr>
              <a:t>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= n-1, 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3ED2-ADAE-480A-B7C5-B9FADE49B9AC}" type="slidenum">
              <a:t>70</a:t>
            </a:fld>
          </a:p>
        </p:txBody>
      </p:sp>
    </p:spTree>
  </p:cSld>
  <p:transition spd="med">
    <p:dissolv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antum Numb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gular momentum quantum number, </a:t>
            </a:r>
            <a:r>
              <a:rPr b="0" i="1" lang="en-US" sz="3600" spc="-1" strike="noStrike">
                <a:solidFill>
                  <a:srgbClr val="40458c"/>
                </a:solidFill>
                <a:latin typeface="Bookman Old Style"/>
              </a:rPr>
              <a:t>l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lues of </a:t>
            </a:r>
            <a:r>
              <a:rPr b="0" i="1" lang="en-US" sz="3200" spc="-1" strike="noStrike">
                <a:solidFill>
                  <a:srgbClr val="40458c"/>
                </a:solidFill>
                <a:latin typeface="Bookman Old Style"/>
              </a:rPr>
              <a:t>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= n-1, 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scribes the orbital shap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85F3-F5AF-44B8-9C53-0DD1181BBD21}" type="slidenum">
              <a:t>71</a:t>
            </a:fld>
          </a:p>
        </p:txBody>
      </p:sp>
    </p:spTree>
  </p:cSld>
  <p:transition spd="med">
    <p:dissolv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antum Numb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gular momentum quantum number, </a:t>
            </a:r>
            <a:r>
              <a:rPr b="0" i="1" lang="en-US" sz="3600" spc="-1" strike="noStrike">
                <a:solidFill>
                  <a:srgbClr val="40458c"/>
                </a:solidFill>
                <a:latin typeface="Bookman Old Style"/>
              </a:rPr>
              <a:t>l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lues of </a:t>
            </a:r>
            <a:r>
              <a:rPr b="0" i="1" lang="en-US" sz="3200" spc="-1" strike="noStrike">
                <a:solidFill>
                  <a:srgbClr val="40458c"/>
                </a:solidFill>
                <a:latin typeface="Bookman Old Style"/>
              </a:rPr>
              <a:t>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= n-1, 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scribes the orbital shap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dicates the number of sublevel (subshell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58c"/>
                </a:solidFill>
                <a:latin typeface="Bookman Old Style"/>
              </a:rPr>
              <a:t>(except for the 1</a:t>
            </a:r>
            <a:r>
              <a:rPr b="0" i="1" lang="en-US" sz="3200" spc="-1" strike="noStrike" baseline="30000">
                <a:solidFill>
                  <a:srgbClr val="40458c"/>
                </a:solidFill>
                <a:latin typeface="Bookman Old Style"/>
              </a:rPr>
              <a:t>st</a:t>
            </a:r>
            <a:r>
              <a:rPr b="0" i="1" lang="en-US" sz="3200" spc="-1" strike="noStrike">
                <a:solidFill>
                  <a:srgbClr val="40458c"/>
                </a:solidFill>
                <a:latin typeface="Bookman Old Style"/>
              </a:rPr>
              <a:t> main energy level, orbitals of different shapes are known as sublevels or subshell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D098-79A7-48D1-9A94-CCED54616B37}" type="slidenum">
              <a:t>72</a:t>
            </a:fld>
          </a:p>
        </p:txBody>
      </p:sp>
    </p:spTree>
  </p:cSld>
  <p:transition spd="med">
    <p:dissolv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bital Shap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r a specific main energy level, the number of orbital shapes possible is equal to 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Values of </a:t>
            </a:r>
            <a:r>
              <a:rPr b="0" i="1" lang="en-US" sz="3600" spc="-1" strike="noStrike">
                <a:solidFill>
                  <a:srgbClr val="40458c"/>
                </a:solidFill>
                <a:latin typeface="Bookman Old Style"/>
              </a:rPr>
              <a:t>l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= n-1, 0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Ex. Orbital which n=2, can have one of two shapes corresponding to l = 0 or l=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pending on its value of 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, an orbital is assigned a lette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5615-D376-4A37-8D9F-0C1F710D6659}" type="slidenum">
              <a:t>73</a:t>
            </a:fld>
          </a:p>
        </p:txBody>
      </p:sp>
    </p:spTree>
  </p:cSld>
  <p:transition spd="med">
    <p:dissolv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bital Shapes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gular magnetic quantum number, </a:t>
            </a:r>
            <a:r>
              <a:rPr b="0" i="1" lang="en-US" sz="3200" spc="-1" strike="noStrike">
                <a:solidFill>
                  <a:srgbClr val="40458c"/>
                </a:solidFill>
                <a:latin typeface="Bookman Old Style"/>
              </a:rPr>
              <a:t>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</a:t>
            </a:r>
            <a:r>
              <a:rPr b="0" i="1" lang="en-US" sz="3200" spc="-1" strike="noStrike">
                <a:solidFill>
                  <a:srgbClr val="40458c"/>
                </a:solidFill>
                <a:latin typeface="Bookman Old Style"/>
              </a:rPr>
              <a:t>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= 0, then the orbital is labeled 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is spherica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68B5-D9A7-4007-B3C8-7E4BB44E571C}" type="slidenum">
              <a:t>74</a:t>
            </a:fld>
          </a:p>
        </p:txBody>
      </p:sp>
    </p:spTree>
  </p:cSld>
  <p:transition spd="med">
    <p:dissolv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bital Shap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</a:t>
            </a:r>
            <a:r>
              <a:rPr b="0" i="1" lang="en-US" sz="3200" spc="-1" strike="noStrike">
                <a:solidFill>
                  <a:srgbClr val="40458c"/>
                </a:solidFill>
                <a:latin typeface="Bookman Old Style"/>
              </a:rPr>
              <a:t>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= 1, then the orbital is labeled 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umbbell” shap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D61D-1D52-4BC7-92C8-2E7684BE57B3}" type="slidenum">
              <a:t>75</a:t>
            </a:fld>
          </a:p>
        </p:txBody>
      </p:sp>
    </p:spTree>
  </p:cSld>
  <p:transition spd="med">
    <p:dissolv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bital Shap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</a:t>
            </a:r>
            <a:r>
              <a:rPr b="0" i="1" lang="en-US" sz="3200" spc="-1" strike="noStrike">
                <a:solidFill>
                  <a:srgbClr val="40458c"/>
                </a:solidFill>
                <a:latin typeface="Bookman Old Style"/>
              </a:rPr>
              <a:t>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= 2, the orbital is labeled 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uble dumbbell” or four-leaf clov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4D43-E00F-4F2D-8F9F-640D75CB7E49}" type="slidenum">
              <a:t>76</a:t>
            </a:fld>
          </a:p>
        </p:txBody>
      </p:sp>
    </p:spTree>
  </p:cSld>
  <p:transition spd="med">
    <p:dissolv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bital Shap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</a:t>
            </a:r>
            <a:r>
              <a:rPr b="0" i="1" lang="en-US" sz="3200" spc="-1" strike="noStrike">
                <a:solidFill>
                  <a:srgbClr val="40458c"/>
                </a:solidFill>
                <a:latin typeface="Bookman Old Style"/>
              </a:rPr>
              <a:t>l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= 3, then the orbital is labeled 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F283-051E-48CE-8721-6931A012FCF8}" type="slidenum">
              <a:t>77</a:t>
            </a:fld>
          </a:p>
        </p:txBody>
      </p:sp>
    </p:spTree>
  </p:cSld>
  <p:transition spd="med">
    <p:dissolv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nergy Level and Orbit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=1, only s orbit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=2, s and p orbit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=3, s, p, and d orbit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=4, s,p,d and f orbit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member: 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l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= n-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50F2-5C9D-4579-A15F-BB30A415156B}" type="slidenum">
              <a:t>78</a:t>
            </a:fld>
          </a:p>
        </p:txBody>
      </p:sp>
    </p:spTree>
  </p:cSld>
  <p:transition spd="med">
    <p:dissolv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tomic Orbit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tomic Orbitals are designated by the principal quantum number followed by letter of their subshel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. 1s = s orbital in 1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ain energy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. 4d = d sublevel in 4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ain energy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8F37-183A-4477-9A11-CCC6C67500F3}" type="slidenum">
              <a:t>79</a:t>
            </a:fld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utherford’s Gold Foil Experiment (Observation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st of the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-particles passed through the foi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ny of the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-particles deflected at various angl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urprisingly, a few particles were deflected back from the Au foi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EE0E-A8E1-464C-83A8-A66786E220C4}" type="slidenum">
              <a:t>8</a:t>
            </a:fld>
          </a:p>
        </p:txBody>
      </p:sp>
    </p:spTree>
  </p:cSld>
  <p:transition spd="med">
    <p:dissolve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antum Numbers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gnetic Quantum Number, m</a:t>
            </a:r>
            <a:r>
              <a:rPr b="0" i="1" lang="en-US" sz="3600" spc="-1" strike="noStrike" baseline="-25000">
                <a:solidFill>
                  <a:srgbClr val="40458c"/>
                </a:solidFill>
                <a:latin typeface="Bookman Old Style"/>
              </a:rPr>
              <a:t>l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5E79-A5BC-4C04-807F-D6DA188059B3}" type="slidenum">
              <a:t>80</a:t>
            </a:fld>
          </a:p>
        </p:txBody>
      </p:sp>
    </p:spTree>
  </p:cSld>
  <p:transition spd="med">
    <p:dissolv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antum Numbers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gnetic Quantum Number, m</a:t>
            </a:r>
            <a:r>
              <a:rPr b="0" i="1" lang="en-US" sz="3600" spc="-1" strike="noStrike" baseline="-25000">
                <a:solidFill>
                  <a:srgbClr val="40458c"/>
                </a:solidFill>
                <a:latin typeface="Bookman Old Style"/>
              </a:rPr>
              <a:t>l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lues of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</a:t>
            </a:r>
            <a:r>
              <a:rPr b="0" i="1" lang="en-US" sz="3200" spc="-1" strike="noStrike" baseline="-25000">
                <a:solidFill>
                  <a:srgbClr val="40458c"/>
                </a:solidFill>
                <a:latin typeface="Bookman Old Style"/>
              </a:rPr>
              <a:t>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= +</a:t>
            </a:r>
            <a:r>
              <a:rPr b="0" i="1" lang="en-US" sz="3200" spc="-1" strike="noStrike">
                <a:solidFill>
                  <a:srgbClr val="40458c"/>
                </a:solidFill>
                <a:latin typeface="Bookman Old Style"/>
              </a:rPr>
              <a:t>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…0…-</a:t>
            </a:r>
            <a:r>
              <a:rPr b="0" i="1" lang="en-US" sz="3200" spc="-1" strike="noStrike">
                <a:solidFill>
                  <a:srgbClr val="40458c"/>
                </a:solidFill>
                <a:latin typeface="Bookman Old Style"/>
              </a:rPr>
              <a:t>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D0C8-51C7-40EE-B86E-FEE14D3C0A7D}" type="slidenum">
              <a:t>81</a:t>
            </a:fld>
          </a:p>
        </p:txBody>
      </p:sp>
    </p:spTree>
  </p:cSld>
  <p:transition spd="med">
    <p:dissolv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antum Numbers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gnetic Quantum Number, m</a:t>
            </a:r>
            <a:r>
              <a:rPr b="0" i="1" lang="en-US" sz="3600" spc="-1" strike="noStrike" baseline="-25000">
                <a:solidFill>
                  <a:srgbClr val="40458c"/>
                </a:solidFill>
                <a:latin typeface="Bookman Old Style"/>
              </a:rPr>
              <a:t>l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lues of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</a:t>
            </a:r>
            <a:r>
              <a:rPr b="0" i="1" lang="en-US" sz="3200" spc="-1" strike="noStrike" baseline="-25000">
                <a:solidFill>
                  <a:srgbClr val="40458c"/>
                </a:solidFill>
                <a:latin typeface="Bookman Old Style"/>
              </a:rPr>
              <a:t>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= +</a:t>
            </a:r>
            <a:r>
              <a:rPr b="0" i="1" lang="en-US" sz="3200" spc="-1" strike="noStrike">
                <a:solidFill>
                  <a:srgbClr val="40458c"/>
                </a:solidFill>
                <a:latin typeface="Bookman Old Style"/>
              </a:rPr>
              <a:t>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…0…-</a:t>
            </a:r>
            <a:r>
              <a:rPr b="0" i="1" lang="en-US" sz="3200" spc="-1" strike="noStrike">
                <a:solidFill>
                  <a:srgbClr val="40458c"/>
                </a:solidFill>
                <a:latin typeface="Bookman Old Style"/>
              </a:rPr>
              <a:t>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scribes the orientation of the orbital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tomic orbitals can have the same shape but different orienta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787B-53DB-4707-91D5-CB79A6CA2812}" type="slidenum">
              <a:t>82</a:t>
            </a:fld>
          </a:p>
        </p:txBody>
      </p:sp>
    </p:spTree>
  </p:cSld>
  <p:transition spd="med">
    <p:dissolv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gnetic Quantum Numb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 orbitals are spherical, only one orientation, so m=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 orbitals, 3-D orientation, so m= -1, 0 or 1 (x, y, z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 orbitals, 5 orientations, m= -2,-1, 0, 1 or 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2CF6-EDF0-4E6C-ACAD-90250B42BB6E}" type="slidenum">
              <a:t>83</a:t>
            </a:fld>
          </a:p>
        </p:txBody>
      </p:sp>
    </p:spTree>
  </p:cSld>
  <p:transition spd="med">
    <p:dissolv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antum Numbers (4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ectron Spin Quantum Number,m</a:t>
            </a:r>
            <a:r>
              <a:rPr b="0" i="1" lang="en-US" sz="3200" spc="-1" strike="noStrike" baseline="-25000">
                <a:solidFill>
                  <a:srgbClr val="40458c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9A25-7664-436B-94A7-589DBDB71503}" type="slidenum">
              <a:t>84</a:t>
            </a:fld>
          </a:p>
        </p:txBody>
      </p:sp>
    </p:spTree>
  </p:cSld>
  <p:transition spd="med">
    <p:dissolv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antum Numb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ectron Spin Quantum Number,m</a:t>
            </a:r>
            <a:r>
              <a:rPr b="0" i="1" lang="en-US" sz="3200" spc="-1" strike="noStrike" baseline="-25000">
                <a:solidFill>
                  <a:srgbClr val="40458c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alues of m</a:t>
            </a:r>
            <a:r>
              <a:rPr b="0" i="1" lang="en-US" sz="2800" spc="-1" strike="noStrike" baseline="-25000">
                <a:solidFill>
                  <a:srgbClr val="40458c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= +1/2 or –1/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- spin in only 1 or 2 direc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single orbital can hold a maximum of 2 e-, which must have opposite spi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3213-7261-4FD3-AC34-D33452676C31}" type="slidenum">
              <a:t>85</a:t>
            </a:fld>
          </a:p>
        </p:txBody>
      </p:sp>
    </p:spTree>
  </p:cSld>
  <p:transition spd="med">
    <p:dissolv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ectron Configura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ectron Configurations: arragenment of e- in an ato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re is a distinct electron configuration for each ato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re are 3 rules to writing electron configuration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293-DD07-4347-82D1-5C4C378F8FAC}" type="slidenum">
              <a:t>86</a:t>
            </a:fld>
          </a:p>
        </p:txBody>
      </p:sp>
    </p:spTree>
  </p:cSld>
  <p:transition spd="med">
    <p:dissolve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uli Exclusion Princi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No 2 e- in an atom can have the same set of four quantum numbers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m</a:t>
            </a:r>
            <a:r>
              <a:rPr b="0" i="1" lang="en-US" sz="3200" spc="-1" strike="noStrike" baseline="-30000">
                <a:solidFill>
                  <a:srgbClr val="40458c"/>
                </a:solidFill>
                <a:latin typeface="Tahoma"/>
                <a:ea typeface="Times New Roman"/>
              </a:rPr>
              <a:t>l</a:t>
            </a:r>
            <a:r>
              <a:rPr b="0" lang="en-US" sz="3200" spc="-1" strike="noStrike" baseline="-30000">
                <a:solidFill>
                  <a:srgbClr val="40458c"/>
                </a:solidFill>
                <a:latin typeface="Tahoma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m</a:t>
            </a:r>
            <a:r>
              <a:rPr b="0" lang="en-US" sz="3200" spc="-1" strike="noStrike" baseline="-30000">
                <a:solidFill>
                  <a:srgbClr val="40458c"/>
                </a:solidFill>
                <a:latin typeface="Tahoma"/>
                <a:ea typeface="Times New Roman"/>
              </a:rPr>
              <a:t>s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).  Therefore, no atomic orbital can contain more than 2 e-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BEDF-4ACE-4230-8A84-45285A450375}" type="slidenum">
              <a:t>87</a:t>
            </a:fld>
          </a:p>
        </p:txBody>
      </p:sp>
    </p:spTree>
  </p:cSld>
  <p:transition spd="med">
    <p:dissolv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ufbau Princi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ufbau Principle: an e- occupies the lowest energy orbital that can receive i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ufbau order: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8760-0B12-416E-9EF3-FD4806B6F231}" type="slidenum">
              <a:t>88</a:t>
            </a:fld>
          </a:p>
        </p:txBody>
      </p:sp>
    </p:spTree>
  </p:cSld>
  <p:transition spd="med">
    <p:dissolv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und’s Ru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und’s Rule: orbitals of equal energy are each occupied by one e- before any orbital is occupied by a second e-, and all e- in singly occupied orbitals must have the same spi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1DB1-33C4-45B1-BE22-F3451EE2E496}" type="slidenum">
              <a:t>89</a:t>
            </a:fld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utherford’s Gold Foil Experiment (Conclusion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therford concluded that most of the mass of an atom is concentrated in a core, called the atomic nucleu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nucleus is positively charge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st of the volume of the atom is empty spac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2E48-ED8E-4741-A764-68BF331D771B}" type="slidenum">
              <a:t>9</a:t>
            </a:fld>
          </a:p>
        </p:txBody>
      </p:sp>
    </p:spTree>
  </p:cSld>
  <p:transition spd="med">
    <p:dissolv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ectron Configur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total of the superscripts must equal the atomic number (number of electrons) of that atom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last symbol listed is the symbol for the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differentiating electro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FF7E-BC07-4D1C-8831-88C409DF8E19}" type="slidenum">
              <a:t>90</a:t>
            </a:fld>
          </a:p>
        </p:txBody>
      </p:sp>
    </p:spTree>
  </p:cSld>
  <p:transition spd="med">
    <p:dissolve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fferentiating Electr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differentiating electron is the electron that is added which makes the configuration different from that of the preceding elemen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“last” electro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s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s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s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2s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s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2s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s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2s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2p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50AF-D580-4AAC-9E8F-9031F911116D}" type="slidenum">
              <a:t>91</a:t>
            </a:fld>
          </a:p>
        </p:txBody>
      </p:sp>
    </p:spTree>
  </p:cSld>
  <p:transition spd="med">
    <p:dissolve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bital Diagra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se diagrams are based on the electron configuratio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 orbital diagram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ach orbital (the space in an atom that will hold a pair of electrons) is show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opposite spins of the electron pair is indicate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C3F2-3B0A-4A5F-BDB0-B4CDA52BCFAB}" type="slidenum">
              <a:t>92</a:t>
            </a:fld>
          </a:p>
        </p:txBody>
      </p:sp>
    </p:spTree>
  </p:cSld>
  <p:transition spd="med">
    <p:dissolv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bital Diagram Ru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present each electron by an arro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direction of the arrow represents the electron spi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raw an up arrow to show the first electron in each orbit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Hund’s Rul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 Distribute the electrons among the orbitals within sublevels so as to give the most unshared pair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ut one electron in each orbital of a sublevel before the second electron appear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lf filled sublevels are more stable than partially full sublevel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E23-6BD1-49C2-A14E-2BE79EE0164A}" type="slidenum">
              <a:t>93</a:t>
            </a:fld>
          </a:p>
        </p:txBody>
      </p:sp>
    </p:spTree>
  </p:cSld>
  <p:transition spd="med">
    <p:dissolv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bital Diagram Examp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Symbol"/>
                <a:ea typeface="Symbol"/>
              </a:rPr>
              <a:t>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_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Symbol"/>
                <a:ea typeface="Symbol"/>
              </a:rPr>
              <a:t>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Symbol"/>
                <a:ea typeface="Symbol"/>
              </a:rPr>
              <a:t>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_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s     2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Symbol"/>
                <a:ea typeface="Symbol"/>
              </a:rPr>
              <a:t>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Symbol"/>
                <a:ea typeface="Symbol"/>
              </a:rPr>
              <a:t>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Symbol"/>
                <a:ea typeface="Symbol"/>
              </a:rPr>
              <a:t>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__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__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s      2s          2p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Symbol"/>
                <a:ea typeface="Symbol"/>
              </a:rPr>
              <a:t>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Symbol"/>
                <a:ea typeface="Symbol"/>
              </a:rPr>
              <a:t>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Symbol"/>
                <a:ea typeface="Symbol"/>
              </a:rPr>
              <a:t>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Symbol"/>
                <a:ea typeface="Symbol"/>
              </a:rPr>
              <a:t>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Symbol"/>
                <a:ea typeface="Symbol"/>
              </a:rPr>
              <a:t>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_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s     2s          2p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FB3F-A4D9-4721-A743-7091BF27D8B8}" type="slidenum">
              <a:t>94</a:t>
            </a:fld>
          </a:p>
        </p:txBody>
      </p:sp>
    </p:spTree>
  </p:cSld>
  <p:transition spd="med">
    <p:dissolve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ot Diagram of Valence Electr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en two atom collide, and a reaction takes place, only the outer electrons interac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se outer electrons are referred to as the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valence electron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cause of the overlaying of the sublevels in the larger atoms,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there are never more than eight valence electr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FA61-8914-47F1-8DCB-0C97CFAC4637}" type="slidenum">
              <a:t>95</a:t>
            </a:fld>
          </a:p>
        </p:txBody>
      </p:sp>
    </p:spTree>
  </p:cSld>
  <p:transition spd="med">
    <p:dissolve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ules for Dot Diagra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n-US" sz="9600" spc="-1" strike="noStrike">
                <a:solidFill>
                  <a:srgbClr val="40458c"/>
                </a:solidFill>
                <a:latin typeface="Tahoma"/>
              </a:rPr>
              <a:t>:Xy:</a:t>
            </a:r>
            <a:endParaRPr b="0" lang="en-US" sz="9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3886200" y="243828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0458c"/>
                </a:solidFill>
                <a:latin typeface="Tahoma"/>
              </a:rPr>
              <a:t>. .</a:t>
            </a:r>
            <a:endParaRPr b="0" lang="en-US" sz="9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09880" y="3809880"/>
            <a:ext cx="16765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415908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0458c"/>
                </a:solidFill>
                <a:latin typeface="Tahoma"/>
              </a:rPr>
              <a:t>. .</a:t>
            </a:r>
            <a:endParaRPr b="0" lang="en-US" sz="9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9920" y="411480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 sublevel electro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962520" y="281952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orbit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419112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orbital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038480" y="54864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orbit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D191-D40D-428E-A45E-06E3B5AB7204}" type="slidenum">
              <a:t>96</a:t>
            </a:fld>
          </a:p>
        </p:txBody>
      </p:sp>
    </p:spTree>
  </p:cSld>
  <p:transition spd="med">
    <p:dissolve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ules for Dot Diagra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member:  the maximum number of valence electrons is 8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nly s and p sublevel electrons will ever be valence electron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ut the dots that represent the s and p electrons around the symbo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the same rule (Hund’s rule) as you fill the designated orbital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5AC2-DC7B-45F6-90E4-4E73B63BF314}" type="slidenum">
              <a:t>97</a:t>
            </a:fld>
          </a:p>
        </p:txBody>
      </p:sp>
    </p:spTree>
  </p:cSld>
  <p:transition spd="med">
    <p:dissolve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amples of Dot Diagra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8A20-D0FD-4016-8B5D-C68CF5C7484F}" type="slidenum">
              <a:t>98</a:t>
            </a:fld>
          </a:p>
        </p:txBody>
      </p:sp>
    </p:spTree>
  </p:cSld>
  <p:transition spd="med">
    <p:dissolve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amples of Dot Diagra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X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BA85-905D-434D-85DA-CC56DA4C3EF9}" type="slidenum">
              <a:t>99</a:t>
            </a:fld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4T23:47:24Z</dcterms:created>
  <dc:creator>Profile</dc:creator>
  <dc:description/>
  <dc:language>en-US</dc:language>
  <cp:lastModifiedBy>marti andreski</cp:lastModifiedBy>
  <dcterms:modified xsi:type="dcterms:W3CDTF">2004-07-30T21:15:30Z</dcterms:modified>
  <cp:revision>45</cp:revision>
  <dc:subject/>
  <dc:title>Atomic Structure</dc:title>
</cp:coreProperties>
</file>